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021B-8F77-49E0-B0F1-FA1C2082C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9AD7-15DE-41A7-9DCF-EB646CBFA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58C3-7487-4EFE-8943-D27429973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82F5-4529-4FD9-9D1E-5B34F8FE8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594A-0D70-45DD-BE1A-C3F5FEB52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07CF-B681-4BF5-B077-918CD4DB1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73AE-950C-40E6-B636-989FEECFA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CBB9-CEB4-44D8-9C0C-3A2FC8A85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772E-AA0E-41CE-AD28-FA1022540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A6F0-A253-4BCF-8080-01A277D3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8E08-9B9A-4DB2-9EF8-6007D858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F364-6EE8-4A4C-A4A2-2D025F0D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13EB-499A-47D6-B56E-16CA90E6B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Solve%20Using%20Division.notebook" TargetMode="External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Powerpoint%20and%20Senteo%20Questions/Solve%20Using%20Multiplication.notebook" TargetMode="External"/><Relationship Id="rId2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Powerpoint%20and%20Senteo%20Questions/Solve%20Multiplication%20and%20Division.notebook" TargetMode="External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114440" y="1752120"/>
            <a:ext cx="4800600" cy="2667240"/>
          </a:xfrm>
          <a:prstGeom prst="rect">
            <a:avLst/>
          </a:prstGeom>
          <a:solidFill>
            <a:srgbClr val="996633"/>
          </a:solidFill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olving Equations Using Multiplication and Divi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409720" y="4800240"/>
            <a:ext cx="2210040" cy="1066680"/>
          </a:xfrm>
          <a:prstGeom prst="rect">
            <a:avLst/>
          </a:prstGeom>
          <a:solidFill>
            <a:srgbClr val="996633"/>
          </a:solidFill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nda Or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 rot="21423600">
            <a:off x="2819520" y="685440"/>
            <a:ext cx="3504960" cy="723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3x = 15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371600" y="5105520"/>
            <a:ext cx="211932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c99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x/3 = 5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cc99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3581280" cy="30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Isolating the Vari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ns getting the variable (letter) by itself on one side of the 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3200400" y="2666880"/>
                <a:ext cx="259092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1066680" y="3733920"/>
            <a:ext cx="7170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isolate the variable, we have to think what does the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equation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93240" y="5257800"/>
            <a:ext cx="74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 means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3 TIMES a number is 12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You have to do the </a:t>
            </a: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PPOSITE function to isolate the variab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pposite of multiplic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5480" y="2362320"/>
            <a:ext cx="3124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Division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3048120" y="3809880"/>
                <a:ext cx="259056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3124080" y="457200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724280" y="457200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00400" y="44956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78720" y="449568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3886200"/>
            <a:ext cx="533160" cy="685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00400" y="4648320"/>
            <a:ext cx="533520" cy="685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6629400" y="3809880"/>
            <a:ext cx="2057400" cy="2879640"/>
            <a:chOff x="6629400" y="3809880"/>
            <a:chExt cx="2057400" cy="2879640"/>
          </a:xfrm>
        </p:grpSpPr>
        <p:sp>
          <p:nvSpPr>
            <p:cNvPr id="62" name=""/>
            <p:cNvSpPr/>
            <p:nvPr/>
          </p:nvSpPr>
          <p:spPr>
            <a:xfrm>
              <a:off x="6629400" y="3809880"/>
              <a:ext cx="2057400" cy="19234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emember to divide both sides of the equation by 3 to keep it balanced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" name="" descr=""/>
            <p:cNvPicPr/>
            <p:nvPr/>
          </p:nvPicPr>
          <p:blipFill>
            <a:blip r:embed="rId1"/>
            <a:stretch/>
          </p:blipFill>
          <p:spPr>
            <a:xfrm>
              <a:off x="7162920" y="5867280"/>
              <a:ext cx="990360" cy="822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"/>
          <p:cNvSpPr/>
          <p:nvPr/>
        </p:nvSpPr>
        <p:spPr>
          <a:xfrm>
            <a:off x="0" y="3657600"/>
            <a:ext cx="2514600" cy="22284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ce 3 divided by 3 is 1, we can cancel out the threes leaving x isolated on the left side of the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3048120" y="5397480"/>
                <a:ext cx="2590560" cy="14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0" y="6019920"/>
            <a:ext cx="2514600" cy="64260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write the question and sol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819520"/>
            <a:ext cx="2530440" cy="64260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get rid of the 3’s divide each side by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ve the equations using division to isolate the variab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r = 28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t = 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2x = 14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3x =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v =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g =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94560" y="6095880"/>
            <a:ext cx="11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he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solating the Variable when there is a denomina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3581280" y="2286000"/>
                <a:ext cx="1879560" cy="18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1146960" y="4419720"/>
            <a:ext cx="718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does this 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equatio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mean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889280" y="5218200"/>
            <a:ext cx="4816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5410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 means </a:t>
            </a: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a number divided by 3 is 5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2895480"/>
            <a:ext cx="2666880" cy="1313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need to get rid of the 3 to isolate the variable.  To do this you multipl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3733920" y="3276720"/>
                <a:ext cx="144756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3657600" y="4114800"/>
            <a:ext cx="762120" cy="685800"/>
          </a:xfrm>
          <a:prstGeom prst="ellipse">
            <a:avLst/>
          </a:prstGeom>
          <a:solidFill>
            <a:srgbClr val="ffff00">
              <a:alpha val="6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6840" y="1752480"/>
            <a:ext cx="574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pposite of divis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75400" y="2514600"/>
            <a:ext cx="32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ultiplica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You have to do the </a:t>
            </a: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PPOSITE function to isolate the variab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2895480" y="3352680"/>
                <a:ext cx="85104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×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4" name=""/>
          <p:cNvGrpSpPr/>
          <p:nvPr/>
        </p:nvGrpSpPr>
        <p:grpSpPr>
          <a:xfrm>
            <a:off x="6781680" y="3276720"/>
            <a:ext cx="2057400" cy="2879640"/>
            <a:chOff x="6781680" y="3276720"/>
            <a:chExt cx="2057400" cy="2879640"/>
          </a:xfrm>
        </p:grpSpPr>
        <p:sp>
          <p:nvSpPr>
            <p:cNvPr id="85" name=""/>
            <p:cNvSpPr/>
            <p:nvPr/>
          </p:nvSpPr>
          <p:spPr>
            <a:xfrm>
              <a:off x="6781680" y="3276720"/>
              <a:ext cx="2057400" cy="19234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emember to multiply both sides of the equation by 3 to keep it balanced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7315200" y="5334120"/>
              <a:ext cx="990360" cy="82224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5181480" y="3657600"/>
                <a:ext cx="80352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2895480" y="3505320"/>
            <a:ext cx="533520" cy="53316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733920" y="4114800"/>
            <a:ext cx="533160" cy="53352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5181480"/>
            <a:ext cx="2514600" cy="64260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write the question and sol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733920" y="5029200"/>
                <a:ext cx="1963440" cy="13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14400" y="4495680"/>
            <a:ext cx="2962080" cy="3682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3’s cancel each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ve the equations using multiplication to isolate the variab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143000" y="2209680"/>
                <a:ext cx="946080" cy="94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143000" y="3200400"/>
                <a:ext cx="106056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066680" y="4114800"/>
                <a:ext cx="99072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380880" y="1295280"/>
            <a:ext cx="381024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066680" y="1219320"/>
                <a:ext cx="93996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066680" y="5029200"/>
                <a:ext cx="137160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066680" y="6029280"/>
                <a:ext cx="104148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5562720" y="1295280"/>
            <a:ext cx="358128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4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62520" y="6248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e the following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066680" y="1676520"/>
                <a:ext cx="152424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143000" y="2438280"/>
                <a:ext cx="106668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219320" y="3733920"/>
                <a:ext cx="1523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219320" y="4495680"/>
                <a:ext cx="106668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5410080" y="1676520"/>
                <a:ext cx="160020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5257800" y="2666880"/>
                <a:ext cx="220968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5410080" y="3429000"/>
                <a:ext cx="152424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5486400" y="4800600"/>
                <a:ext cx="19810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3809880" y="58672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he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16:01:39Z</dcterms:created>
  <dc:creator>admin</dc:creator>
  <dc:description/>
  <dc:language>en-US</dc:language>
  <cp:lastModifiedBy>admin</cp:lastModifiedBy>
  <dcterms:modified xsi:type="dcterms:W3CDTF">2008-03-13T12:20:10Z</dcterms:modified>
  <cp:revision>16</cp:revision>
  <dc:subject/>
  <dc:title>Solving Equations Using Multiplication and Division</dc:title>
</cp:coreProperties>
</file>